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6ED-7880-414E-BCC3-B968EC2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334-260E-42C5-8284-18946EF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A28-D035-4B72-9A2B-D317AE15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9FC-6ACE-4376-A3FC-7720E96D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FA9B-175A-412E-957E-C1712503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350B-DA4B-4E8A-B762-1D816B6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E5F6-6F6F-4665-8950-E4BF27F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774-7739-4AD7-9E07-2840F19D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C4B-FC62-42FF-9C74-526BB4A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0254-B61D-4E12-BA53-375BBB8E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EDF4-8C81-4A8B-9BDD-DEA6C34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61-EE6B-47BD-84ED-6251FD04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130-AA01-4557-9BEF-3EDB29C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A9B2-DCB6-4286-8C9A-221C658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17E1-CFC8-48AB-A23F-CC240C4F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C150-6092-41CF-878D-47B2C882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0D23-C3FE-4771-8778-A0E04592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C268C-D2E9-486B-8958-8324AEE7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54A9A-E6AB-499F-9D42-B4C4819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25AF9-AB5F-42B0-8E77-280FA9AC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A45C1-1677-497C-BDAF-799339A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51E12-EB4D-4CEC-A63E-1CC59746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439-8BD6-450E-887B-B0915AC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FEDE0-E489-42A4-9BC7-1E913FB4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A54C6-0C25-4AA4-B1AB-454AA20C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1FC75-924F-45D1-8315-DDD0BB5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73BFD-6BAE-4DEE-9923-7620A2A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183AA-B1BC-4475-A30F-C4161724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4DC66-3E5E-40B9-88FF-D808D5EF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6F704-20A8-46F1-8511-0A0345AD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03BD-67B6-4A79-A03C-75B6212D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483E-A592-4E7D-98F9-06962D9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D8D8-01D1-46A8-BAA9-B60E6C7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475-6615-4261-89F9-9564AF0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E61C-6250-4DA3-B369-388EFC7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A3D2-DCA6-4587-B124-40604BC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34EE-2E1D-421E-92AA-DC33817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313C-2909-423B-9E9F-4B238DE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2E7F-B911-4C54-8C04-1913EDC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1201-EFC1-48B2-A0B1-AD7EC63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0256-041D-4FE8-BD48-CD3BD398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ADC1-B0F3-4B38-A097-63429857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81C6-6543-4EDE-B580-CD404D8F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0BBBF-DEBA-4743-9D41-C279E0CD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EBA-918C-426D-9FAE-C03F202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9CC3B-F0CE-4961-9869-5CAA48CC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9A937-4106-4DCB-BC7A-0BA83037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54042-8EC9-4742-8520-16C18C44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C292B-D9C4-4BA1-A484-1444041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A2654-5FC9-43C0-A7EB-A412236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A1484-6B2D-47BE-BB6C-8E31B6B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6A804-CDBD-4169-9775-98CC936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FD33A-B108-4F35-97DE-D30282F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6FDCF-64C2-4E12-8889-9B1DE2C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9FAF7-47F9-45D8-8CCC-CFC37B50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0C8-7C30-4C60-BBA1-E0E288D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87864-7ADD-4E44-A44E-0DE7992F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28FF8-01F0-4F36-A1D9-DF296893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59C8C-0ECD-415A-940E-6BEE492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468C0-2843-4E50-9207-5FF1ED31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9ABB0-9995-4047-8121-C48DBCD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509D9-3F29-4EA1-A870-43DB4516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7C406-BF59-454D-B02E-A8EE9FB3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A7894-A730-45A5-945C-87DB0B15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79A4B-50CC-4789-A310-15D973B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4D3F4-4A19-409F-844A-C6E91E7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642-CFC7-48C7-BD22-822E65C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F702A-E90B-4BB1-8DCF-E413C0A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AAFF4-BC48-4FE7-9AC5-0601F7C3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3FF3C-7D06-4903-949C-727B0C35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A082C-E46E-47AF-A4C6-334CAA50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1E90C-A0D4-4730-8315-FA278644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297B5-AA28-459B-BECE-ABFFCBE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D3BAD-E22F-4E75-9D58-09B7D10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A5B6C-9DF7-4013-B568-F705EC8F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39649-A929-49CE-B268-67F5B3C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8A80D-6B1C-4644-8D93-E448057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083-F2CC-42F1-9D89-FEA14F8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5C673-9988-4FB3-9F29-709DFB3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A70B5-96BB-4B0C-ADB3-A896DCB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15ED2-7996-415F-83B2-1DB47A2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6A744-8A8C-48B5-83C0-4D003297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F7082-3F56-4E73-B377-7D797AA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78-3C2B-45E7-B983-65B88B2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9C2-F743-4025-BE52-B17B1B9FBE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308-6D8F-48FB-A3A3-3ED721F6FE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9D0B-E7C6-4195-9CC0-27A5F623B5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1CD-0567-4BCA-A1B5-5DA94ED609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FAE-EFD7-405E-AF0D-B6083E8CB0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867-E25B-40BD-99B2-29B5587CE2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DB7-981D-4DB4-BBED-85D334BEE7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MERS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ing a transparent eyebal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 natu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(what happens)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en Emerson compares air to a cordial of virtue he is sayin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coming a transparent eyebal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 nature one is not alone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ranscendentalism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etaphorically speaking, tilling soi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ociety love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but Emerson believe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ing a nonconformist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MERS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merson mentions Socrates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be misunderstood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ccording to Emerson, living a consistent life is/mean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ncord Hymn” is abou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e shot heard around the world is an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e Minutemen were praised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y the rude bridge that arched the flood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One way to challenge the text is by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merson’s idea of One-Sou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40:11Z</dcterms:created>
  <dc:creator>Nvasquez</dc:creator>
  <dc:description/>
  <dc:language>en-US</dc:language>
  <cp:lastModifiedBy>Nvasquez</cp:lastModifiedBy>
  <dcterms:modified xsi:type="dcterms:W3CDTF">2010-10-20T17:15:52Z</dcterms:modified>
  <cp:revision>5</cp:revision>
  <dc:subject/>
  <dc:title>Emerson</dc:title>
</cp:coreProperties>
</file>